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ED552-C586-47A7-ADC8-A4C96EFC4B0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, Force and Gravity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– Amount of stuff (atoms/molecules) in an object. Measured in k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 – Measures the gravitational pull on something. Measured in N (newt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s Gravitational Field Strength – 10N/kg. (The gravitational field strength at the surface of the Earth produces a force of approximately     10 N on every mass of 1 kg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, Force and Gravity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– Amount of stuff (atoms/molecules) in an object. Measured in k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 – Measures the gravitational pull on something. Measured in N (newt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s Gravitational Field Strength – 10N/kg. (The gravitational field strength at the surface of the Earth produces a force of approximately     10 N on every mass of 1 kg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ational fie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’s gravitational force makes the ball move down towards the centre of the Ear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’s gravitational force makes the Earth move in an orbit around the Su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ational fie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’s gravitational force makes the ball move down towards the centre of the Ear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’s gravitational force makes the Earth move in an orbit around the Su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ting it all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pple has mass (k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gets pulled to the ground at a force (this can be measured in Newt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arth’s gravitational field strength pulls the apple towards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ting it all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pple has mass (k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gets pulled to the ground at a force (this can be measured in Newt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arth’s gravitational field strength pulls the apple towards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 – Is a measure of force pulling something to the ground due to 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g on a minute…that sounds very familiar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 – Is a measure of force pulling something to the ground due to 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g on a minute…that sounds very familiar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 = Fo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 is measured in N (newt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 = Fo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 is measured in N (newt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ting it all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pple has mass (k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gets pulled to the ground at a force (this can be measured in Newtons) = W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arth’s gravitational field strength pulls the apple towards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ting it all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pple has mass (k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gets pulled to the ground at a force (this can be measured in Newtons) = W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arth’s gravitational field strength pulls the apple towards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an we calculate weigh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use an equation we already know to help u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 (gravitational field strength) = force / m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Force  = W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 = Mass x g (gravitational field strength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morise: W = m X 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an we calculate weigh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use an equation we already know to help u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 (gravitational field strength) = force / m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Force  = W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 = Mass x g (gravitational field strength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morise: W = m X 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EFE6-0C20-4FD9-92AF-8208E9D50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56BA-A1A3-4042-BA24-71FEF07F2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FC63-1EA6-46AE-AC98-579D0CB44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5F5D-A7CF-4416-B132-414EF88AF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A37A-7833-4D94-BCAA-C019596A4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AFD4-FB55-4DF8-8AEA-D2A8A49AD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C54E-FBDD-4DC7-B58D-5A2821F85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0EB5-F073-42AA-A506-668ABBB4A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9948-667D-4566-9D39-A68FA0D80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66EA-83BA-4D84-A8EC-30DB95A9C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80D8-02C7-44EC-9F32-D14D859D9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8583-7E19-4F0B-8325-867E43204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4AF39-9E4C-442F-8E56-38239D41D35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Mass, Force and Gravity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Mas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– Amount of stuff (atoms/molecules) in an object. Measured in k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Forc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– Measures the gravitational pull on something. Measured in N (newt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Earths Gravitational Field Strength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– 10N/kg. (The gravitational field strength at the surface of the Earth produces a force of approximately     10 N on every mass of 1 kg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ravitational fie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3283200" cy="3429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"/>
          <p:cNvPicPr/>
          <p:nvPr/>
        </p:nvPicPr>
        <p:blipFill>
          <a:blip r:embed="rId2"/>
          <a:stretch/>
        </p:blipFill>
        <p:spPr>
          <a:xfrm>
            <a:off x="5257800" y="1676520"/>
            <a:ext cx="3438360" cy="2981160"/>
          </a:xfrm>
          <a:prstGeom prst="rect">
            <a:avLst/>
          </a:prstGeom>
          <a:ln w="0">
            <a:noFill/>
          </a:ln>
        </p:spPr>
      </p:pic>
      <p:sp>
        <p:nvSpPr>
          <p:cNvPr id="53" name="Text Box 5"/>
          <p:cNvSpPr/>
          <p:nvPr/>
        </p:nvSpPr>
        <p:spPr>
          <a:xfrm>
            <a:off x="228600" y="5486400"/>
            <a:ext cx="449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arth’s gravitational force makes the ball move down towards the centre of the Ear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4648320" y="480060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un’s gravitational force makes the Earth move in an orbit around the Su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utting it all toge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apple has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ass (k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gets pulled to the ground at a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orc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this can be measured in Newt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earth’s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gravitational field strength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pulls the apple towards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818B16FC66D44386927D789A9280BA5D"/>
          <p:cNvPicPr/>
          <p:nvPr/>
        </p:nvPicPr>
        <p:blipFill>
          <a:blip r:embed="rId1"/>
          <a:stretch/>
        </p:blipFill>
        <p:spPr>
          <a:xfrm>
            <a:off x="5003640" y="1628640"/>
            <a:ext cx="352908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ow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– Is a measure of force pulling something to the ground due to gra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Hang on a minute…that sounds very familiar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Weight = Fo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ight is measured in N (newto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utting it all toge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apple has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ass (k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gets pulled to the ground at a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orc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this can be measured in Newtons) =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E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earth’s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gravitational field strength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pulls the apple towards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818B16FC66D44386927D789A9280BA5D"/>
          <p:cNvPicPr/>
          <p:nvPr/>
        </p:nvPicPr>
        <p:blipFill>
          <a:blip r:embed="rId1"/>
          <a:stretch/>
        </p:blipFill>
        <p:spPr>
          <a:xfrm>
            <a:off x="5003640" y="1628640"/>
            <a:ext cx="352908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ow can we calculate weigh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4"/>
          <p:cNvSpPr/>
          <p:nvPr/>
        </p:nvSpPr>
        <p:spPr>
          <a:xfrm>
            <a:off x="826920" y="5157720"/>
            <a:ext cx="396108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 can use an equation we already know to help u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 (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avitational field strength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) = force / m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Force  = We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ight = Mass x g (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avitational field strength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emorise: W = m X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1T10:34:30Z</dcterms:created>
  <dc:creator>CEC</dc:creator>
  <dc:description/>
  <dc:language>en-US</dc:language>
  <cp:lastModifiedBy>RomaK</cp:lastModifiedBy>
  <dcterms:modified xsi:type="dcterms:W3CDTF">2015-09-03T12:31:07Z</dcterms:modified>
  <cp:revision>8</cp:revision>
  <dc:subject/>
  <dc:title>The story so far…… </dc:title>
</cp:coreProperties>
</file>